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</p:sldIdLst>
  <p:sldSz cx="9144000" cy="6858000"/>
  <p:notesSz cx="68580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484280" indent="-33804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2176560" indent="-34776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859120" indent="-34776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859120" indent="-34776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859120" indent="-34776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637b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304920" y="609480"/>
            <a:ext cx="8534160" cy="0"/>
          </a:xfrm>
          <a:prstGeom prst="line">
            <a:avLst/>
          </a:prstGeom>
          <a:ln w="50760">
            <a:solidFill>
              <a:srgbClr val="637b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fae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005fae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05408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449280">
              <a:spcBef>
                <a:spcPts val="1687"/>
              </a:spcBef>
              <a:spcAft>
                <a:spcPts val="751"/>
              </a:spcAft>
              <a:buClr>
                <a:srgbClr val="0061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341280">
              <a:spcBef>
                <a:spcPts val="1687"/>
              </a:spcBef>
              <a:spcAft>
                <a:spcPts val="751"/>
              </a:spcAft>
              <a:buClr>
                <a:srgbClr val="0060a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827360" indent="-341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84560" indent="-33516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84560" indent="-33516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84560" indent="-33516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028"/>
          <p:cNvSpPr/>
          <p:nvPr/>
        </p:nvSpPr>
        <p:spPr>
          <a:xfrm>
            <a:off x="304920" y="1003320"/>
            <a:ext cx="8534160" cy="0"/>
          </a:xfrm>
          <a:prstGeom prst="line">
            <a:avLst/>
          </a:prstGeom>
          <a:ln w="50760">
            <a:solidFill>
              <a:srgbClr val="637b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Group 1029"/>
          <p:cNvGrpSpPr/>
          <p:nvPr/>
        </p:nvGrpSpPr>
        <p:grpSpPr>
          <a:xfrm>
            <a:off x="228600" y="6535440"/>
            <a:ext cx="8610480" cy="246240"/>
            <a:chOff x="228600" y="6535440"/>
            <a:chExt cx="8610480" cy="246240"/>
          </a:xfrm>
        </p:grpSpPr>
        <p:sp>
          <p:nvSpPr>
            <p:cNvPr id="45" name="Text Box 1030"/>
            <p:cNvSpPr/>
            <p:nvPr/>
          </p:nvSpPr>
          <p:spPr>
            <a:xfrm>
              <a:off x="228600" y="6535440"/>
              <a:ext cx="4246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opyright © 2005 Pearson Education, Inc. Publishing as Benjamin Cumming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Line 1031"/>
            <p:cNvSpPr/>
            <p:nvPr/>
          </p:nvSpPr>
          <p:spPr>
            <a:xfrm>
              <a:off x="304920" y="6553080"/>
              <a:ext cx="8534160" cy="0"/>
            </a:xfrm>
            <a:prstGeom prst="line">
              <a:avLst/>
            </a:prstGeom>
            <a:ln w="25560">
              <a:solidFill>
                <a:srgbClr val="637b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3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ffe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795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273240" y="6537240"/>
            <a:ext cx="418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260280" y="4417920"/>
            <a:ext cx="86868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990066"/>
                </a:solidFill>
                <a:latin typeface="Arial"/>
              </a:rPr>
              <a:t>PowerPoint Lectures f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800" spc="-1" strike="noStrike">
                <a:solidFill>
                  <a:srgbClr val="990066"/>
                </a:solidFill>
                <a:latin typeface="Arial"/>
              </a:rPr>
              <a:t>Biology: Concepts and Connections, Fifth Edition</a:t>
            </a:r>
            <a:br>
              <a:rPr sz="1800"/>
            </a:br>
            <a:r>
              <a:rPr b="1" i="1" lang="en-US" sz="1800" spc="-1" strike="noStrike">
                <a:solidFill>
                  <a:srgbClr val="990066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990066"/>
                </a:solidFill>
                <a:latin typeface="Times New Roman"/>
                <a:ea typeface="Times New Roman"/>
              </a:rPr>
              <a:t>– Campbell, Reece, Taylor, and Si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60af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484280" indent="-33804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2176560" indent="-34776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859120" indent="-34776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859120" indent="-34776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859120" indent="-34776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026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b7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1028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029"/>
          <p:cNvSpPr/>
          <p:nvPr/>
        </p:nvSpPr>
        <p:spPr>
          <a:xfrm>
            <a:off x="273240" y="653724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030"/>
          <p:cNvSpPr/>
          <p:nvPr/>
        </p:nvSpPr>
        <p:spPr>
          <a:xfrm>
            <a:off x="260280" y="4648320"/>
            <a:ext cx="8686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owerPoint Lectures for </a:t>
            </a:r>
            <a:br>
              <a:rPr sz="1800"/>
            </a:b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Biology, Seventh Ed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031"/>
          <p:cNvSpPr/>
          <p:nvPr/>
        </p:nvSpPr>
        <p:spPr>
          <a:xfrm>
            <a:off x="690120" y="52736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600" spc="-1" strike="noStrike">
                <a:solidFill>
                  <a:srgbClr val="990066"/>
                </a:solidFill>
                <a:latin typeface="Times New Roman"/>
              </a:rPr>
              <a:t>Neil Campbell and Jane Ree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032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990066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fae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005fae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304920" y="105408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449280">
              <a:spcBef>
                <a:spcPts val="1687"/>
              </a:spcBef>
              <a:spcAft>
                <a:spcPts val="751"/>
              </a:spcAft>
              <a:buClr>
                <a:srgbClr val="0061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341280">
              <a:spcBef>
                <a:spcPts val="1687"/>
              </a:spcBef>
              <a:spcAft>
                <a:spcPts val="751"/>
              </a:spcAft>
              <a:buClr>
                <a:srgbClr val="0060a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827360" indent="-341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84560" indent="-33516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84560" indent="-33516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84560" indent="-33516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5000" spc="-1" strike="noStrike">
                <a:solidFill>
                  <a:srgbClr val="666699"/>
                </a:solidFill>
                <a:latin typeface="Arial"/>
              </a:rPr>
              <a:t>Chapter 37</a:t>
            </a:r>
            <a:endParaRPr b="1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37960" y="1531440"/>
            <a:ext cx="8677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5500" spc="-1" strike="noStrike">
                <a:solidFill>
                  <a:srgbClr val="0060af"/>
                </a:solidFill>
                <a:latin typeface="Times New Roman"/>
              </a:rPr>
              <a:t>Communities and Ecosystems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7.3 Predation leads to diverse adaptations in both predator and pre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2868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ation is an interaction between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20880" indent="-5382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which one species, the predator, kills and eats another, the pr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2868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daptations of both predators and pr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20880" indent="-5382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d to be refined through natural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prey gain protection throug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mouflage or chemical def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Group 26"/>
          <p:cNvGrpSpPr/>
          <p:nvPr/>
        </p:nvGrpSpPr>
        <p:grpSpPr>
          <a:xfrm>
            <a:off x="216000" y="2905200"/>
            <a:ext cx="4038480" cy="2733840"/>
            <a:chOff x="216000" y="2905200"/>
            <a:chExt cx="4038480" cy="2733840"/>
          </a:xfrm>
        </p:grpSpPr>
        <p:pic>
          <p:nvPicPr>
            <p:cNvPr id="233" name="Picture 20" descr="_x0017_37_03aCamouflage_UP.jpg                                        0051B246_x0003_203                            BE74600A:"/>
            <p:cNvPicPr/>
            <p:nvPr/>
          </p:nvPicPr>
          <p:blipFill>
            <a:blip r:embed="rId1"/>
            <a:stretch/>
          </p:blipFill>
          <p:spPr>
            <a:xfrm>
              <a:off x="216000" y="2905200"/>
              <a:ext cx="4038480" cy="24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22"/>
            <p:cNvSpPr/>
            <p:nvPr/>
          </p:nvSpPr>
          <p:spPr>
            <a:xfrm>
              <a:off x="1393920" y="53625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7.3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Group 25"/>
          <p:cNvGrpSpPr/>
          <p:nvPr/>
        </p:nvGrpSpPr>
        <p:grpSpPr>
          <a:xfrm>
            <a:off x="4791240" y="2914560"/>
            <a:ext cx="4039920" cy="2727720"/>
            <a:chOff x="4791240" y="2914560"/>
            <a:chExt cx="4039920" cy="2727720"/>
          </a:xfrm>
        </p:grpSpPr>
        <p:pic>
          <p:nvPicPr>
            <p:cNvPr id="236" name="Picture 21" descr="_x001c_37_03bChemicalDefense_UP.jpg                                   0051B246_x0003_203                            BE74600A:"/>
            <p:cNvPicPr/>
            <p:nvPr/>
          </p:nvPicPr>
          <p:blipFill>
            <a:blip r:embed="rId2"/>
            <a:stretch/>
          </p:blipFill>
          <p:spPr>
            <a:xfrm>
              <a:off x="4791240" y="2914560"/>
              <a:ext cx="403992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23"/>
            <p:cNvSpPr/>
            <p:nvPr/>
          </p:nvSpPr>
          <p:spPr>
            <a:xfrm>
              <a:off x="6321600" y="536580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7.3B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301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me prey gain protection through mimic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301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“copycat” adaptation in which one species mimics the appearance of anoth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Group 45"/>
          <p:cNvGrpSpPr/>
          <p:nvPr/>
        </p:nvGrpSpPr>
        <p:grpSpPr>
          <a:xfrm>
            <a:off x="306360" y="3103560"/>
            <a:ext cx="8459640" cy="2953080"/>
            <a:chOff x="306360" y="3103560"/>
            <a:chExt cx="8459640" cy="2953080"/>
          </a:xfrm>
        </p:grpSpPr>
        <p:pic>
          <p:nvPicPr>
            <p:cNvPr id="241" name="Picture 41" descr="_x001c_37_03cBatesianMimicry_UP.jpg                                   0051B246_x0003_203                            BE74600A:"/>
            <p:cNvPicPr/>
            <p:nvPr/>
          </p:nvPicPr>
          <p:blipFill>
            <a:blip r:embed="rId1"/>
            <a:stretch/>
          </p:blipFill>
          <p:spPr>
            <a:xfrm>
              <a:off x="306360" y="3116160"/>
              <a:ext cx="4025880" cy="271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2" descr="_x001d_37_03dMüllerianMimicry_UP.jpg                                  0051B246_x0003_203                            BE74600A:"/>
            <p:cNvPicPr/>
            <p:nvPr/>
          </p:nvPicPr>
          <p:blipFill>
            <a:blip r:embed="rId2"/>
            <a:stretch/>
          </p:blipFill>
          <p:spPr>
            <a:xfrm>
              <a:off x="4475160" y="3103560"/>
              <a:ext cx="4290840" cy="27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43"/>
            <p:cNvSpPr/>
            <p:nvPr/>
          </p:nvSpPr>
          <p:spPr>
            <a:xfrm>
              <a:off x="1470240" y="57801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7.3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44"/>
            <p:cNvSpPr/>
            <p:nvPr/>
          </p:nvSpPr>
          <p:spPr>
            <a:xfrm>
              <a:off x="5813640" y="576900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7.3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27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7.4 Predation can maintain diversity in a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463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keystone predator may maintain community divers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463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y reducing the numbers of the strongest competit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Group 24"/>
          <p:cNvGrpSpPr/>
          <p:nvPr/>
        </p:nvGrpSpPr>
        <p:grpSpPr>
          <a:xfrm>
            <a:off x="1660680" y="3328920"/>
            <a:ext cx="5317560" cy="3137040"/>
            <a:chOff x="1660680" y="3328920"/>
            <a:chExt cx="5317560" cy="3137040"/>
          </a:xfrm>
        </p:grpSpPr>
        <p:pic>
          <p:nvPicPr>
            <p:cNvPr id="248" name="Picture 22" descr="_x001c_37_04aKeystoneSpecies_UP.jpg                                   0051B246_x0003_203                            BE74600A:"/>
            <p:cNvPicPr/>
            <p:nvPr/>
          </p:nvPicPr>
          <p:blipFill>
            <a:blip r:embed="rId1"/>
            <a:stretch/>
          </p:blipFill>
          <p:spPr>
            <a:xfrm>
              <a:off x="2727360" y="3328920"/>
              <a:ext cx="4250880" cy="31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23"/>
            <p:cNvSpPr/>
            <p:nvPr/>
          </p:nvSpPr>
          <p:spPr>
            <a:xfrm>
              <a:off x="1660680" y="61498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7.4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301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moval of a keystone predator from a community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301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cause major changes in community dynam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24"/>
          <p:cNvGrpSpPr/>
          <p:nvPr/>
        </p:nvGrpSpPr>
        <p:grpSpPr>
          <a:xfrm>
            <a:off x="3321360" y="2090880"/>
            <a:ext cx="2263320" cy="4387680"/>
            <a:chOff x="3321360" y="2090880"/>
            <a:chExt cx="2263320" cy="4387680"/>
          </a:xfrm>
        </p:grpSpPr>
        <p:sp>
          <p:nvSpPr>
            <p:cNvPr id="253" name="Text Box 19"/>
            <p:cNvSpPr/>
            <p:nvPr/>
          </p:nvSpPr>
          <p:spPr>
            <a:xfrm>
              <a:off x="3321360" y="60991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7.4B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4" name="Picture 23" descr="_x001e_34_07bKeystonePredator_CNL.jpg                                 0051B279_x0003_203                            BE74600A:"/>
            <p:cNvPicPr/>
            <p:nvPr/>
          </p:nvPicPr>
          <p:blipFill>
            <a:blip r:embed="rId1"/>
            <a:stretch/>
          </p:blipFill>
          <p:spPr>
            <a:xfrm>
              <a:off x="4392720" y="2090880"/>
              <a:ext cx="1191960" cy="4387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7.5 Herbivores and the plants they eat have various adapt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biv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animals that have adaptations for eating plants or alga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pl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 toxic chemicals to protect against herbiv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herbivore-plant interactions illustrate coev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reciprocal evolutionary adap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79"/>
          <p:cNvGrpSpPr/>
          <p:nvPr/>
        </p:nvGrpSpPr>
        <p:grpSpPr>
          <a:xfrm>
            <a:off x="2041920" y="2652840"/>
            <a:ext cx="4757400" cy="3762360"/>
            <a:chOff x="2041920" y="2652840"/>
            <a:chExt cx="4757400" cy="3762360"/>
          </a:xfrm>
        </p:grpSpPr>
        <p:grpSp>
          <p:nvGrpSpPr>
            <p:cNvPr id="260" name="Group 77"/>
            <p:cNvGrpSpPr/>
            <p:nvPr/>
          </p:nvGrpSpPr>
          <p:grpSpPr>
            <a:xfrm>
              <a:off x="3030840" y="2652840"/>
              <a:ext cx="3768480" cy="3762360"/>
              <a:chOff x="3030840" y="2652840"/>
              <a:chExt cx="3768480" cy="3762360"/>
            </a:xfrm>
          </p:grpSpPr>
          <p:pic>
            <p:nvPicPr>
              <p:cNvPr id="261" name="Picture 70" descr="_x0017_37_05Coevolution_UP.jpg                                        0051B25D_x0003_203                            BE74600A:"/>
              <p:cNvPicPr/>
              <p:nvPr/>
            </p:nvPicPr>
            <p:blipFill>
              <a:blip r:embed="rId1"/>
              <a:stretch/>
            </p:blipFill>
            <p:spPr>
              <a:xfrm>
                <a:off x="3030840" y="2652840"/>
                <a:ext cx="3768480" cy="376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Line 71"/>
              <p:cNvSpPr/>
              <p:nvPr/>
            </p:nvSpPr>
            <p:spPr>
              <a:xfrm flipH="1" flipV="1">
                <a:off x="5561280" y="3311280"/>
                <a:ext cx="466560" cy="228600"/>
              </a:xfrm>
              <a:prstGeom prst="line">
                <a:avLst/>
              </a:prstGeom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72"/>
              <p:cNvSpPr/>
              <p:nvPr/>
            </p:nvSpPr>
            <p:spPr>
              <a:xfrm flipH="1" flipV="1">
                <a:off x="5561280" y="3311280"/>
                <a:ext cx="591840" cy="127080"/>
              </a:xfrm>
              <a:prstGeom prst="line">
                <a:avLst/>
              </a:prstGeom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Text Box 73"/>
              <p:cNvSpPr/>
              <p:nvPr/>
            </p:nvSpPr>
            <p:spPr>
              <a:xfrm>
                <a:off x="5063040" y="3150000"/>
                <a:ext cx="529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666699"/>
                    </a:solidFill>
                    <a:latin typeface="Arial"/>
                  </a:rPr>
                  <a:t>Egg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74"/>
              <p:cNvSpPr/>
              <p:nvPr/>
            </p:nvSpPr>
            <p:spPr>
              <a:xfrm>
                <a:off x="4961160" y="4651560"/>
                <a:ext cx="66600" cy="3333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75"/>
              <p:cNvSpPr/>
              <p:nvPr/>
            </p:nvSpPr>
            <p:spPr>
              <a:xfrm flipH="1">
                <a:off x="5032440" y="4646880"/>
                <a:ext cx="44640" cy="3380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Text Box 76"/>
              <p:cNvSpPr/>
              <p:nvPr/>
            </p:nvSpPr>
            <p:spPr>
              <a:xfrm>
                <a:off x="4708080" y="4945320"/>
                <a:ext cx="750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Sugar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deposit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8" name="Text Box 78"/>
            <p:cNvSpPr/>
            <p:nvPr/>
          </p:nvSpPr>
          <p:spPr>
            <a:xfrm>
              <a:off x="2041920" y="608976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7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329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7.6 Symbiotic relationships help structure commun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ymbiotic relation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n interaction between two or more species that live together in direct cont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29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463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parasitis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463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parasite obtains food at the expense of its ho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463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thogens are parasit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463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at are often lethal to their ho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Group 41"/>
          <p:cNvGrpSpPr/>
          <p:nvPr/>
        </p:nvGrpSpPr>
        <p:grpSpPr>
          <a:xfrm>
            <a:off x="1849680" y="3668760"/>
            <a:ext cx="4841640" cy="2801880"/>
            <a:chOff x="1849680" y="3668760"/>
            <a:chExt cx="4841640" cy="2801880"/>
          </a:xfrm>
        </p:grpSpPr>
        <p:pic>
          <p:nvPicPr>
            <p:cNvPr id="274" name="Picture 38" descr="_x001e_37_06aAustralianRabbits_UP.jpg                                 0051B246_x0003_203                            BE74600A:"/>
            <p:cNvPicPr/>
            <p:nvPr/>
          </p:nvPicPr>
          <p:blipFill>
            <a:blip r:embed="rId1"/>
            <a:stretch/>
          </p:blipFill>
          <p:spPr>
            <a:xfrm>
              <a:off x="2889360" y="3668760"/>
              <a:ext cx="3801960" cy="28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39"/>
            <p:cNvSpPr/>
            <p:nvPr/>
          </p:nvSpPr>
          <p:spPr>
            <a:xfrm>
              <a:off x="1849680" y="616104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7.6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29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463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commensalism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463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 species benefits while the other is unaffec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463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mutualism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463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oth partners benefi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" name="Group 35"/>
          <p:cNvGrpSpPr/>
          <p:nvPr/>
        </p:nvGrpSpPr>
        <p:grpSpPr>
          <a:xfrm>
            <a:off x="1965600" y="3578400"/>
            <a:ext cx="4992480" cy="2877840"/>
            <a:chOff x="1965600" y="3578400"/>
            <a:chExt cx="4992480" cy="2877840"/>
          </a:xfrm>
        </p:grpSpPr>
        <p:pic>
          <p:nvPicPr>
            <p:cNvPr id="279" name="Picture 33" descr="_x0016_37_06bMutualism_UP.jpg                                         0051B246_x0003_203                            BE74600A:"/>
            <p:cNvPicPr/>
            <p:nvPr/>
          </p:nvPicPr>
          <p:blipFill>
            <a:blip r:embed="rId1"/>
            <a:stretch/>
          </p:blipFill>
          <p:spPr>
            <a:xfrm>
              <a:off x="2997360" y="3578400"/>
              <a:ext cx="3960720" cy="28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34"/>
            <p:cNvSpPr/>
            <p:nvPr/>
          </p:nvSpPr>
          <p:spPr>
            <a:xfrm>
              <a:off x="1965600" y="614844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7.6B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225"/>
              </a:spcBef>
              <a:spcAft>
                <a:spcPts val="700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ning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137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wasp called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Apanteles glomerat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137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ys its eggs inside the caterpillar larva of the cabbage white butterf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137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eggs of the wasp will develop into larva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137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ich will eat the caterpillar from the insi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Group 22"/>
          <p:cNvGrpSpPr/>
          <p:nvPr/>
        </p:nvGrpSpPr>
        <p:grpSpPr>
          <a:xfrm>
            <a:off x="1381320" y="4132440"/>
            <a:ext cx="2869920" cy="2322720"/>
            <a:chOff x="1381320" y="4132440"/>
            <a:chExt cx="2869920" cy="2322720"/>
          </a:xfrm>
        </p:grpSpPr>
        <p:pic>
          <p:nvPicPr>
            <p:cNvPr id="176" name="Picture 16" descr="_x001c_37_UN742ParasiticWasp_UP.jpg                                   0051B246_x0003_203                            BE74600A:"/>
            <p:cNvPicPr/>
            <p:nvPr/>
          </p:nvPicPr>
          <p:blipFill>
            <a:blip r:embed="rId1"/>
            <a:stretch/>
          </p:blipFill>
          <p:spPr>
            <a:xfrm>
              <a:off x="1384200" y="4132440"/>
              <a:ext cx="2867040" cy="21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17"/>
            <p:cNvSpPr/>
            <p:nvPr/>
          </p:nvSpPr>
          <p:spPr>
            <a:xfrm>
              <a:off x="1381320" y="6208920"/>
              <a:ext cx="1436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Apanteles glomeratus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Group 23"/>
          <p:cNvGrpSpPr/>
          <p:nvPr/>
        </p:nvGrpSpPr>
        <p:grpSpPr>
          <a:xfrm>
            <a:off x="4803120" y="4175280"/>
            <a:ext cx="3121560" cy="2270160"/>
            <a:chOff x="4803120" y="4175280"/>
            <a:chExt cx="3121560" cy="2270160"/>
          </a:xfrm>
        </p:grpSpPr>
        <p:pic>
          <p:nvPicPr>
            <p:cNvPr id="179" name="Picture 19" descr="_x001f_37_UN742ButterflyDoomEgg_UP.jpg                                0051B246_x0003_203                            BE74600A:"/>
            <p:cNvPicPr/>
            <p:nvPr/>
          </p:nvPicPr>
          <p:blipFill>
            <a:blip r:embed="rId2"/>
            <a:stretch/>
          </p:blipFill>
          <p:spPr>
            <a:xfrm>
              <a:off x="4803480" y="4175280"/>
              <a:ext cx="3121200" cy="20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20"/>
            <p:cNvSpPr/>
            <p:nvPr/>
          </p:nvSpPr>
          <p:spPr>
            <a:xfrm>
              <a:off x="4803120" y="6199200"/>
              <a:ext cx="237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 cabbage white butterfly (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pieris rapae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7.7 Disturbance is a prominent feature of most commun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urbances are events 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mage biological communities, remove organisms from them, and alter the availability of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characteristic of most comm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logical succ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transition in species composition of a community following a disturb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succ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gradual colonization of barren r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7" name="Group 11"/>
          <p:cNvGrpSpPr/>
          <p:nvPr/>
        </p:nvGrpSpPr>
        <p:grpSpPr>
          <a:xfrm>
            <a:off x="538200" y="2744640"/>
            <a:ext cx="8030880" cy="3553200"/>
            <a:chOff x="538200" y="2744640"/>
            <a:chExt cx="8030880" cy="3553200"/>
          </a:xfrm>
        </p:grpSpPr>
        <p:grpSp>
          <p:nvGrpSpPr>
            <p:cNvPr id="288" name="Group 4"/>
            <p:cNvGrpSpPr/>
            <p:nvPr/>
          </p:nvGrpSpPr>
          <p:grpSpPr>
            <a:xfrm>
              <a:off x="538200" y="2744640"/>
              <a:ext cx="8030880" cy="3341880"/>
              <a:chOff x="538200" y="2744640"/>
              <a:chExt cx="8030880" cy="3341880"/>
            </a:xfrm>
          </p:grpSpPr>
          <p:pic>
            <p:nvPicPr>
              <p:cNvPr id="289" name="Picture 5" descr="_x001d_37_07PrimarySuccession_UP.jpg                                  0051B25D_x0003_203                            BE74600A:"/>
              <p:cNvPicPr/>
              <p:nvPr/>
            </p:nvPicPr>
            <p:blipFill>
              <a:blip r:embed="rId1"/>
              <a:stretch/>
            </p:blipFill>
            <p:spPr>
              <a:xfrm>
                <a:off x="538200" y="2744640"/>
                <a:ext cx="8030880" cy="322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Text Box 6"/>
              <p:cNvSpPr/>
              <p:nvPr/>
            </p:nvSpPr>
            <p:spPr>
              <a:xfrm>
                <a:off x="1099440" y="4603680"/>
                <a:ext cx="1238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Retreating glacie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with moraine in th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foreground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Text Box 7"/>
              <p:cNvSpPr/>
              <p:nvPr/>
            </p:nvSpPr>
            <p:spPr>
              <a:xfrm>
                <a:off x="2239920" y="5337000"/>
                <a:ext cx="85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Arial"/>
                  </a:rPr>
                  <a:t>Dryas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stag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Text Box 8"/>
              <p:cNvSpPr/>
              <p:nvPr/>
            </p:nvSpPr>
            <p:spPr>
              <a:xfrm>
                <a:off x="4020840" y="5640120"/>
                <a:ext cx="1942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pruce starting to appear in th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alder and cottonwood forest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Text Box 9"/>
              <p:cNvSpPr/>
              <p:nvPr/>
            </p:nvSpPr>
            <p:spPr>
              <a:xfrm>
                <a:off x="6023160" y="5840280"/>
                <a:ext cx="168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pruce and hemlock forest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Text Box 10"/>
            <p:cNvSpPr/>
            <p:nvPr/>
          </p:nvSpPr>
          <p:spPr>
            <a:xfrm>
              <a:off x="3616200" y="602136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7.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ary succ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after a disturbance has destroyed a community but left the soil int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7.8 Fire specialist Max Moritz discusses the role of fire in ecosyste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. Max Morit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wildland fire specialist who studies fire in chaparral ecosyste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TALKING ABOUT SCIENCE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Picture 72" descr="_x0016_37_08aMaxMoritz_UP.jpg                                         0051B246_x0003_203                            BE74600A:"/>
          <p:cNvPicPr/>
          <p:nvPr/>
        </p:nvPicPr>
        <p:blipFill>
          <a:blip r:embed="rId1"/>
          <a:stretch/>
        </p:blipFill>
        <p:spPr>
          <a:xfrm>
            <a:off x="2828880" y="3510000"/>
            <a:ext cx="3070440" cy="29145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73"/>
          <p:cNvSpPr/>
          <p:nvPr/>
        </p:nvSpPr>
        <p:spPr>
          <a:xfrm>
            <a:off x="3702240" y="62499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7.8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e is a key abiotic factor in many eco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Group 32"/>
          <p:cNvGrpSpPr/>
          <p:nvPr/>
        </p:nvGrpSpPr>
        <p:grpSpPr>
          <a:xfrm>
            <a:off x="290520" y="1360440"/>
            <a:ext cx="8555040" cy="4888080"/>
            <a:chOff x="290520" y="1360440"/>
            <a:chExt cx="8555040" cy="4888080"/>
          </a:xfrm>
        </p:grpSpPr>
        <p:pic>
          <p:nvPicPr>
            <p:cNvPr id="305" name="Picture 30" descr="_x001a_37_08bEcosystemFire_UP.jpg                                     0051B246_x0003_203                            BE74600A:"/>
            <p:cNvPicPr/>
            <p:nvPr/>
          </p:nvPicPr>
          <p:blipFill>
            <a:blip r:embed="rId1"/>
            <a:stretch/>
          </p:blipFill>
          <p:spPr>
            <a:xfrm>
              <a:off x="290520" y="1360440"/>
              <a:ext cx="8555040" cy="480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 Box 31"/>
            <p:cNvSpPr/>
            <p:nvPr/>
          </p:nvSpPr>
          <p:spPr>
            <a:xfrm>
              <a:off x="3841920" y="597204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7.8B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7.9 Trophic structure is a key factor in community dyna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community has a trophic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ttern of feeding relationships consisting of several different lev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22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774"/>
              </a:spcBef>
              <a:spcAft>
                <a:spcPts val="624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rophic structures can be represented by food chain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774"/>
              </a:spcBef>
              <a:spcAft>
                <a:spcPts val="624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 stepwise flow of energy and nutrients from plants (producers), to herbivores (primary consumers), to carnivores (secondary and higher-level consumers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Group 28"/>
          <p:cNvGrpSpPr/>
          <p:nvPr/>
        </p:nvGrpSpPr>
        <p:grpSpPr>
          <a:xfrm>
            <a:off x="2063880" y="254160"/>
            <a:ext cx="6572160" cy="6202800"/>
            <a:chOff x="2063880" y="254160"/>
            <a:chExt cx="6572160" cy="6202800"/>
          </a:xfrm>
        </p:grpSpPr>
        <p:sp>
          <p:nvSpPr>
            <p:cNvPr id="311" name="FlagCount" hidden="1"/>
            <p:cNvSpPr/>
            <p:nvPr/>
          </p:nvSpPr>
          <p:spPr>
            <a:xfrm>
              <a:off x="8255160" y="254160"/>
              <a:ext cx="380880" cy="3175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60597b">
                <a:alpha val="25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2" name="Group 24"/>
            <p:cNvGrpSpPr/>
            <p:nvPr/>
          </p:nvGrpSpPr>
          <p:grpSpPr>
            <a:xfrm>
              <a:off x="3379680" y="2836800"/>
              <a:ext cx="2427480" cy="3494520"/>
              <a:chOff x="3379680" y="2836800"/>
              <a:chExt cx="2427480" cy="3494520"/>
            </a:xfrm>
          </p:grpSpPr>
          <p:pic>
            <p:nvPicPr>
              <p:cNvPr id="313" name="Picture 7" descr="_x0015_37_09FoodChains_U.jpg                                          0051B279_x0003_203                            BE74600A:"/>
              <p:cNvPicPr/>
              <p:nvPr/>
            </p:nvPicPr>
            <p:blipFill>
              <a:blip r:embed="rId1"/>
              <a:stretch/>
            </p:blipFill>
            <p:spPr>
              <a:xfrm>
                <a:off x="3379680" y="2836800"/>
                <a:ext cx="2427480" cy="346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Text Box 8"/>
              <p:cNvSpPr/>
              <p:nvPr/>
            </p:nvSpPr>
            <p:spPr>
              <a:xfrm>
                <a:off x="4229640" y="3168720"/>
                <a:ext cx="61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Quaternary</a:t>
                </a:r>
                <a:endParaRPr b="0" lang="en-US" sz="7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consumers</a:t>
                </a:r>
                <a:endParaRPr b="0" lang="en-US" sz="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Text Box 9"/>
              <p:cNvSpPr/>
              <p:nvPr/>
            </p:nvSpPr>
            <p:spPr>
              <a:xfrm>
                <a:off x="4155480" y="2917800"/>
                <a:ext cx="721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Trophic level</a:t>
                </a:r>
                <a:endParaRPr b="0" lang="en-US" sz="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10"/>
              <p:cNvSpPr/>
              <p:nvPr/>
            </p:nvSpPr>
            <p:spPr>
              <a:xfrm>
                <a:off x="4249080" y="3836880"/>
                <a:ext cx="61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Tertiary</a:t>
                </a:r>
                <a:br>
                  <a:rPr sz="700"/>
                </a:b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consumers</a:t>
                </a:r>
                <a:endParaRPr b="0" lang="en-US" sz="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11"/>
              <p:cNvSpPr/>
              <p:nvPr/>
            </p:nvSpPr>
            <p:spPr>
              <a:xfrm>
                <a:off x="4244400" y="4491000"/>
                <a:ext cx="61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Secondary</a:t>
                </a:r>
                <a:br>
                  <a:rPr sz="700"/>
                </a:b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consumers</a:t>
                </a:r>
                <a:endParaRPr b="0" lang="en-US" sz="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Text Box 12"/>
              <p:cNvSpPr/>
              <p:nvPr/>
            </p:nvSpPr>
            <p:spPr>
              <a:xfrm>
                <a:off x="4241160" y="5168880"/>
                <a:ext cx="61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Primary</a:t>
                </a:r>
                <a:br>
                  <a:rPr sz="700"/>
                </a:b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consumers</a:t>
                </a:r>
                <a:endParaRPr b="0" lang="en-US" sz="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Text Box 13"/>
              <p:cNvSpPr/>
              <p:nvPr/>
            </p:nvSpPr>
            <p:spPr>
              <a:xfrm>
                <a:off x="4280400" y="5883120"/>
                <a:ext cx="5814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Producers</a:t>
                </a:r>
                <a:endParaRPr b="0" lang="en-US" sz="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Text Box 14"/>
              <p:cNvSpPr/>
              <p:nvPr/>
            </p:nvSpPr>
            <p:spPr>
              <a:xfrm>
                <a:off x="3579840" y="3584520"/>
                <a:ext cx="401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Hawk</a:t>
                </a:r>
                <a:endParaRPr b="0" lang="en-US" sz="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Text Box 15"/>
              <p:cNvSpPr/>
              <p:nvPr/>
            </p:nvSpPr>
            <p:spPr>
              <a:xfrm>
                <a:off x="3569400" y="4124160"/>
                <a:ext cx="4305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Snake</a:t>
                </a:r>
                <a:endParaRPr b="0" lang="en-US" sz="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Text Box 16"/>
              <p:cNvSpPr/>
              <p:nvPr/>
            </p:nvSpPr>
            <p:spPr>
              <a:xfrm>
                <a:off x="3556080" y="4759200"/>
                <a:ext cx="44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Mouse</a:t>
                </a:r>
                <a:endParaRPr b="0" lang="en-US" sz="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Text Box 17"/>
              <p:cNvSpPr/>
              <p:nvPr/>
            </p:nvSpPr>
            <p:spPr>
              <a:xfrm>
                <a:off x="3434040" y="5450040"/>
                <a:ext cx="688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Grasshopper</a:t>
                </a:r>
                <a:endParaRPr b="0" lang="en-US" sz="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Text Box 18"/>
              <p:cNvSpPr/>
              <p:nvPr/>
            </p:nvSpPr>
            <p:spPr>
              <a:xfrm>
                <a:off x="3613320" y="6130800"/>
                <a:ext cx="38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Plant</a:t>
                </a:r>
                <a:endParaRPr b="0" lang="en-US" sz="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Text Box 19"/>
              <p:cNvSpPr/>
              <p:nvPr/>
            </p:nvSpPr>
            <p:spPr>
              <a:xfrm>
                <a:off x="4964040" y="6110280"/>
                <a:ext cx="768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Phytoplankton</a:t>
                </a:r>
                <a:endParaRPr b="0" lang="en-US" sz="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Text Box 20"/>
              <p:cNvSpPr/>
              <p:nvPr/>
            </p:nvSpPr>
            <p:spPr>
              <a:xfrm>
                <a:off x="4959360" y="5435640"/>
                <a:ext cx="722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Zooplankton</a:t>
                </a:r>
                <a:endParaRPr b="0" lang="en-US" sz="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Text Box 21"/>
              <p:cNvSpPr/>
              <p:nvPr/>
            </p:nvSpPr>
            <p:spPr>
              <a:xfrm>
                <a:off x="4964040" y="4721400"/>
                <a:ext cx="588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Herring</a:t>
                </a:r>
                <a:endParaRPr b="0" lang="en-US" sz="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Text Box 22"/>
              <p:cNvSpPr/>
              <p:nvPr/>
            </p:nvSpPr>
            <p:spPr>
              <a:xfrm>
                <a:off x="4967280" y="4102200"/>
                <a:ext cx="588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Tuna</a:t>
                </a:r>
                <a:endParaRPr b="0" lang="en-US" sz="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Text Box 23"/>
              <p:cNvSpPr/>
              <p:nvPr/>
            </p:nvSpPr>
            <p:spPr>
              <a:xfrm>
                <a:off x="4894200" y="3557520"/>
                <a:ext cx="781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Killer whale</a:t>
                </a:r>
                <a:endParaRPr b="0" lang="en-US" sz="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0" name="Text Box 25"/>
            <p:cNvSpPr/>
            <p:nvPr/>
          </p:nvSpPr>
          <p:spPr>
            <a:xfrm>
              <a:off x="2063880" y="605952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7.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26"/>
            <p:cNvSpPr/>
            <p:nvPr/>
          </p:nvSpPr>
          <p:spPr>
            <a:xfrm>
              <a:off x="3239640" y="6256440"/>
              <a:ext cx="1142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A terrestrial food chain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27"/>
            <p:cNvSpPr/>
            <p:nvPr/>
          </p:nvSpPr>
          <p:spPr>
            <a:xfrm>
              <a:off x="4842720" y="6256440"/>
              <a:ext cx="1095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An aquatic food chain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ritivores (animal scavengers, fungi, and prokaryo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ompose waste matter and recycle nutrients in eco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7.10 Food chains interconnect, forming food we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49280" indent="-334800">
              <a:spcBef>
                <a:spcPts val="814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food we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96920" indent="-531720">
              <a:spcBef>
                <a:spcPts val="814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a key biotic factor in many ecosyste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21"/>
          <p:cNvGrpSpPr/>
          <p:nvPr/>
        </p:nvGrpSpPr>
        <p:grpSpPr>
          <a:xfrm>
            <a:off x="2967120" y="2567160"/>
            <a:ext cx="3252600" cy="3833640"/>
            <a:chOff x="2967120" y="2567160"/>
            <a:chExt cx="3252600" cy="3833640"/>
          </a:xfrm>
        </p:grpSpPr>
        <p:pic>
          <p:nvPicPr>
            <p:cNvPr id="338" name="Picture 8" descr="_x0012_37_10FoodWeb_U.jpg                                             0051B279_x0003_203                            BE74600A:"/>
            <p:cNvPicPr/>
            <p:nvPr/>
          </p:nvPicPr>
          <p:blipFill>
            <a:blip r:embed="rId1"/>
            <a:stretch/>
          </p:blipFill>
          <p:spPr>
            <a:xfrm>
              <a:off x="2967120" y="2567160"/>
              <a:ext cx="3252600" cy="38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 Box 9"/>
            <p:cNvSpPr/>
            <p:nvPr/>
          </p:nvSpPr>
          <p:spPr>
            <a:xfrm>
              <a:off x="3017160" y="2690640"/>
              <a:ext cx="5176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Quaternary,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Text Box 10"/>
            <p:cNvSpPr/>
            <p:nvPr/>
          </p:nvSpPr>
          <p:spPr>
            <a:xfrm>
              <a:off x="3020760" y="2805120"/>
              <a:ext cx="3942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tertiary,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Text Box 11"/>
            <p:cNvSpPr/>
            <p:nvPr/>
          </p:nvSpPr>
          <p:spPr>
            <a:xfrm>
              <a:off x="3016080" y="2911320"/>
              <a:ext cx="5968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and secondary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consumers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12"/>
            <p:cNvSpPr/>
            <p:nvPr/>
          </p:nvSpPr>
          <p:spPr>
            <a:xfrm>
              <a:off x="3029040" y="3225960"/>
              <a:ext cx="3970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Tertiary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and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Text Box 13"/>
            <p:cNvSpPr/>
            <p:nvPr/>
          </p:nvSpPr>
          <p:spPr>
            <a:xfrm>
              <a:off x="3022560" y="3411360"/>
              <a:ext cx="4917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Secondary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consumers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Text Box 14"/>
            <p:cNvSpPr/>
            <p:nvPr/>
          </p:nvSpPr>
          <p:spPr>
            <a:xfrm>
              <a:off x="3029760" y="3730680"/>
              <a:ext cx="4838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Secondary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and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Text Box 15"/>
            <p:cNvSpPr/>
            <p:nvPr/>
          </p:nvSpPr>
          <p:spPr>
            <a:xfrm>
              <a:off x="3029040" y="3911760"/>
              <a:ext cx="4917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Primary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consumers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Text Box 16"/>
            <p:cNvSpPr/>
            <p:nvPr/>
          </p:nvSpPr>
          <p:spPr>
            <a:xfrm>
              <a:off x="3035880" y="5611680"/>
              <a:ext cx="4701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Producers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(plants)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Text Box 17"/>
            <p:cNvSpPr/>
            <p:nvPr/>
          </p:nvSpPr>
          <p:spPr>
            <a:xfrm>
              <a:off x="3022560" y="4560840"/>
              <a:ext cx="4917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Primary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consumers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Text Box 19"/>
          <p:cNvSpPr/>
          <p:nvPr/>
        </p:nvSpPr>
        <p:spPr>
          <a:xfrm>
            <a:off x="1580760" y="60595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7.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560" y="685800"/>
            <a:ext cx="862812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ame phenomen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in other wasp pop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47"/>
          <p:cNvGrpSpPr/>
          <p:nvPr/>
        </p:nvGrpSpPr>
        <p:grpSpPr>
          <a:xfrm>
            <a:off x="252720" y="2535120"/>
            <a:ext cx="4338360" cy="3665880"/>
            <a:chOff x="252720" y="2535120"/>
            <a:chExt cx="4338360" cy="3665880"/>
          </a:xfrm>
        </p:grpSpPr>
        <p:pic>
          <p:nvPicPr>
            <p:cNvPr id="184" name="Picture 38" descr="_x001a_37_UN743ChalcidWasp_UP.jpg                                     0051B246_x0003_203                            BE74600A:"/>
            <p:cNvPicPr/>
            <p:nvPr/>
          </p:nvPicPr>
          <p:blipFill>
            <a:blip r:embed="rId1"/>
            <a:stretch/>
          </p:blipFill>
          <p:spPr>
            <a:xfrm>
              <a:off x="258840" y="2535120"/>
              <a:ext cx="433224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39"/>
            <p:cNvSpPr/>
            <p:nvPr/>
          </p:nvSpPr>
          <p:spPr>
            <a:xfrm>
              <a:off x="252720" y="5924520"/>
              <a:ext cx="1200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chalcid was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6" name="Group 45"/>
          <p:cNvGrpSpPr/>
          <p:nvPr/>
        </p:nvGrpSpPr>
        <p:grpSpPr>
          <a:xfrm>
            <a:off x="4700520" y="2527200"/>
            <a:ext cx="4151160" cy="3673800"/>
            <a:chOff x="4700520" y="2527200"/>
            <a:chExt cx="4151160" cy="3673800"/>
          </a:xfrm>
        </p:grpSpPr>
        <p:pic>
          <p:nvPicPr>
            <p:cNvPr id="187" name="Picture 42" descr="_x001c_37_UN743IchneumonWasp_UP.jpg                                   0051B246_x0003_203                            BE74600A:"/>
            <p:cNvPicPr/>
            <p:nvPr/>
          </p:nvPicPr>
          <p:blipFill>
            <a:blip r:embed="rId2"/>
            <a:stretch/>
          </p:blipFill>
          <p:spPr>
            <a:xfrm>
              <a:off x="4700520" y="2527200"/>
              <a:ext cx="4151160" cy="34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43"/>
            <p:cNvSpPr/>
            <p:nvPr/>
          </p:nvSpPr>
          <p:spPr>
            <a:xfrm>
              <a:off x="4739760" y="5924520"/>
              <a:ext cx="155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 ichneumon was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7.11 Ecosystem ecology emphasizes energy flow and chemical cyc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 ecosyst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814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cludes a community and the abiotic factors with which it intera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ECOSYSTEM STRUCTURE AND DYNAMIC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Group 17"/>
          <p:cNvGrpSpPr/>
          <p:nvPr/>
        </p:nvGrpSpPr>
        <p:grpSpPr>
          <a:xfrm>
            <a:off x="2354400" y="3262320"/>
            <a:ext cx="4135320" cy="3197160"/>
            <a:chOff x="2354400" y="3262320"/>
            <a:chExt cx="4135320" cy="3197160"/>
          </a:xfrm>
        </p:grpSpPr>
        <p:pic>
          <p:nvPicPr>
            <p:cNvPr id="353" name="Picture 7" descr="_x001d_37_11TerrariumEcosystem_U.jpg                                  0051B279_x0003_203                            BE74600A:"/>
            <p:cNvPicPr/>
            <p:nvPr/>
          </p:nvPicPr>
          <p:blipFill>
            <a:blip r:embed="rId1"/>
            <a:stretch/>
          </p:blipFill>
          <p:spPr>
            <a:xfrm>
              <a:off x="2354400" y="3262320"/>
              <a:ext cx="4135320" cy="31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8"/>
            <p:cNvSpPr/>
            <p:nvPr/>
          </p:nvSpPr>
          <p:spPr>
            <a:xfrm>
              <a:off x="3944880" y="3691080"/>
              <a:ext cx="63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Chemical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cycling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9"/>
            <p:cNvSpPr/>
            <p:nvPr/>
          </p:nvSpPr>
          <p:spPr>
            <a:xfrm>
              <a:off x="2494080" y="3836880"/>
              <a:ext cx="52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Energy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flow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Text Box 10"/>
            <p:cNvSpPr/>
            <p:nvPr/>
          </p:nvSpPr>
          <p:spPr>
            <a:xfrm>
              <a:off x="2486880" y="4660920"/>
              <a:ext cx="49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Light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energy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Text Box 11"/>
            <p:cNvSpPr/>
            <p:nvPr/>
          </p:nvSpPr>
          <p:spPr>
            <a:xfrm>
              <a:off x="3969720" y="4398840"/>
              <a:ext cx="60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emical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energy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12"/>
            <p:cNvSpPr/>
            <p:nvPr/>
          </p:nvSpPr>
          <p:spPr>
            <a:xfrm>
              <a:off x="3704400" y="5294160"/>
              <a:ext cx="1049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emical element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Text Box 13"/>
            <p:cNvSpPr/>
            <p:nvPr/>
          </p:nvSpPr>
          <p:spPr>
            <a:xfrm>
              <a:off x="5745960" y="4697280"/>
              <a:ext cx="49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Heat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energy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Text Box 15"/>
          <p:cNvSpPr/>
          <p:nvPr/>
        </p:nvSpPr>
        <p:spPr>
          <a:xfrm>
            <a:off x="1288800" y="60595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7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29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7.12 Primary production sets the energy budget for eco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imary produ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814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the rate at which producers convert sunlight to chemical energy in organic matter, or biom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Group 29"/>
          <p:cNvGrpSpPr/>
          <p:nvPr/>
        </p:nvGrpSpPr>
        <p:grpSpPr>
          <a:xfrm>
            <a:off x="1377720" y="254160"/>
            <a:ext cx="7689600" cy="6229440"/>
            <a:chOff x="1377720" y="254160"/>
            <a:chExt cx="7689600" cy="6229440"/>
          </a:xfrm>
        </p:grpSpPr>
        <p:sp>
          <p:nvSpPr>
            <p:cNvPr id="363" name="FlagCount" hidden="1"/>
            <p:cNvSpPr/>
            <p:nvPr/>
          </p:nvSpPr>
          <p:spPr>
            <a:xfrm>
              <a:off x="8686800" y="254160"/>
              <a:ext cx="380520" cy="3175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60597b">
                <a:alpha val="25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4" name="Picture 8" descr="_x0017_37_12EcosystemNPP_U.jpg                                        0051B279_x0003_203                            BE74600A:"/>
            <p:cNvPicPr/>
            <p:nvPr/>
          </p:nvPicPr>
          <p:blipFill>
            <a:blip r:embed="rId1"/>
            <a:stretch/>
          </p:blipFill>
          <p:spPr>
            <a:xfrm>
              <a:off x="4417920" y="3527280"/>
              <a:ext cx="2793600" cy="26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Text Box 9"/>
            <p:cNvSpPr/>
            <p:nvPr/>
          </p:nvSpPr>
          <p:spPr>
            <a:xfrm>
              <a:off x="3687480" y="3648240"/>
              <a:ext cx="869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pen ocea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Text Box 10"/>
            <p:cNvSpPr/>
            <p:nvPr/>
          </p:nvSpPr>
          <p:spPr>
            <a:xfrm>
              <a:off x="3942360" y="3857760"/>
              <a:ext cx="61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stua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Text Box 11"/>
            <p:cNvSpPr/>
            <p:nvPr/>
          </p:nvSpPr>
          <p:spPr>
            <a:xfrm>
              <a:off x="2912040" y="4078440"/>
              <a:ext cx="164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lgal beds and coral reef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Text Box 12"/>
            <p:cNvSpPr/>
            <p:nvPr/>
          </p:nvSpPr>
          <p:spPr>
            <a:xfrm>
              <a:off x="2757600" y="4299120"/>
              <a:ext cx="179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esert and semidesert scrub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Text Box 13"/>
            <p:cNvSpPr/>
            <p:nvPr/>
          </p:nvSpPr>
          <p:spPr>
            <a:xfrm>
              <a:off x="3965040" y="449568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undr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Text Box 14"/>
            <p:cNvSpPr/>
            <p:nvPr/>
          </p:nvSpPr>
          <p:spPr>
            <a:xfrm>
              <a:off x="3164760" y="4740120"/>
              <a:ext cx="137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emperate grassland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Text Box 15"/>
            <p:cNvSpPr/>
            <p:nvPr/>
          </p:nvSpPr>
          <p:spPr>
            <a:xfrm>
              <a:off x="3524760" y="4944960"/>
              <a:ext cx="101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ultivated land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Text Box 16"/>
            <p:cNvSpPr/>
            <p:nvPr/>
          </p:nvSpPr>
          <p:spPr>
            <a:xfrm>
              <a:off x="3249360" y="5168880"/>
              <a:ext cx="1290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oreal forest (taiga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Text Box 17"/>
            <p:cNvSpPr/>
            <p:nvPr/>
          </p:nvSpPr>
          <p:spPr>
            <a:xfrm>
              <a:off x="3861360" y="537516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avann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18"/>
            <p:cNvSpPr/>
            <p:nvPr/>
          </p:nvSpPr>
          <p:spPr>
            <a:xfrm>
              <a:off x="2787480" y="5605560"/>
              <a:ext cx="1755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emperate deciduous fores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 Box 19"/>
            <p:cNvSpPr/>
            <p:nvPr/>
          </p:nvSpPr>
          <p:spPr>
            <a:xfrm>
              <a:off x="3313080" y="5823000"/>
              <a:ext cx="1227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ropical rain fores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Text Box 20"/>
            <p:cNvSpPr/>
            <p:nvPr/>
          </p:nvSpPr>
          <p:spPr>
            <a:xfrm>
              <a:off x="4390560" y="60832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 Box 21"/>
            <p:cNvSpPr/>
            <p:nvPr/>
          </p:nvSpPr>
          <p:spPr>
            <a:xfrm>
              <a:off x="4785480" y="6076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Text Box 22"/>
            <p:cNvSpPr/>
            <p:nvPr/>
          </p:nvSpPr>
          <p:spPr>
            <a:xfrm>
              <a:off x="5207760" y="607392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,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Text Box 23"/>
            <p:cNvSpPr/>
            <p:nvPr/>
          </p:nvSpPr>
          <p:spPr>
            <a:xfrm>
              <a:off x="5703120" y="605952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,5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Text Box 24"/>
            <p:cNvSpPr/>
            <p:nvPr/>
          </p:nvSpPr>
          <p:spPr>
            <a:xfrm>
              <a:off x="6193800" y="606420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,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25"/>
            <p:cNvSpPr/>
            <p:nvPr/>
          </p:nvSpPr>
          <p:spPr>
            <a:xfrm>
              <a:off x="6690600" y="607392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,5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26"/>
            <p:cNvSpPr/>
            <p:nvPr/>
          </p:nvSpPr>
          <p:spPr>
            <a:xfrm>
              <a:off x="4570920" y="6237360"/>
              <a:ext cx="250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verage net primary productivity (g/m</a:t>
              </a:r>
              <a:r>
                <a:rPr b="0" lang="en-US" sz="1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/yr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377720" y="605952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7.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1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7.13 Energy supply limits the length of food chai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34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yramid of 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34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the flow of energy from producers to primary consumers and to higher trophic lev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6" name="Group 17"/>
          <p:cNvGrpSpPr/>
          <p:nvPr/>
        </p:nvGrpSpPr>
        <p:grpSpPr>
          <a:xfrm>
            <a:off x="2316240" y="2976480"/>
            <a:ext cx="5267160" cy="3457800"/>
            <a:chOff x="2316240" y="2976480"/>
            <a:chExt cx="5267160" cy="3457800"/>
          </a:xfrm>
        </p:grpSpPr>
        <p:pic>
          <p:nvPicPr>
            <p:cNvPr id="387" name="Picture 7" descr="_x001c_37_13ProductionPyramid_U.jpg                                   0051B279_x0003_203                            BE74600A:"/>
            <p:cNvPicPr/>
            <p:nvPr/>
          </p:nvPicPr>
          <p:blipFill>
            <a:blip r:embed="rId1"/>
            <a:stretch/>
          </p:blipFill>
          <p:spPr>
            <a:xfrm>
              <a:off x="2316240" y="2976480"/>
              <a:ext cx="5267160" cy="34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Text Box 8"/>
            <p:cNvSpPr/>
            <p:nvPr/>
          </p:nvSpPr>
          <p:spPr>
            <a:xfrm>
              <a:off x="2496600" y="3259080"/>
              <a:ext cx="801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ertia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nsumer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9"/>
            <p:cNvSpPr/>
            <p:nvPr/>
          </p:nvSpPr>
          <p:spPr>
            <a:xfrm>
              <a:off x="2496600" y="3946680"/>
              <a:ext cx="801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econdary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nsumer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Text Box 10"/>
            <p:cNvSpPr/>
            <p:nvPr/>
          </p:nvSpPr>
          <p:spPr>
            <a:xfrm>
              <a:off x="2499840" y="4603680"/>
              <a:ext cx="801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rima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nsumer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Text Box 11"/>
            <p:cNvSpPr/>
            <p:nvPr/>
          </p:nvSpPr>
          <p:spPr>
            <a:xfrm>
              <a:off x="2511000" y="5305320"/>
              <a:ext cx="75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roducer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Text Box 12"/>
            <p:cNvSpPr/>
            <p:nvPr/>
          </p:nvSpPr>
          <p:spPr>
            <a:xfrm>
              <a:off x="5387760" y="320508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 kca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Text Box 13"/>
            <p:cNvSpPr/>
            <p:nvPr/>
          </p:nvSpPr>
          <p:spPr>
            <a:xfrm>
              <a:off x="5390640" y="3683160"/>
              <a:ext cx="65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0 kca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Text Box 14"/>
            <p:cNvSpPr/>
            <p:nvPr/>
          </p:nvSpPr>
          <p:spPr>
            <a:xfrm>
              <a:off x="4915800" y="4665600"/>
              <a:ext cx="75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,000 kca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4845600" y="5272200"/>
              <a:ext cx="82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,000 kca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4561200" y="6080040"/>
              <a:ext cx="1611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,000,000 kcal of sunligh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7" name="Text Box 18"/>
          <p:cNvSpPr/>
          <p:nvPr/>
        </p:nvSpPr>
        <p:spPr>
          <a:xfrm>
            <a:off x="945720" y="60595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7.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about 10% of the energy stored at each trophic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vailable to the next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7.14 A production pyramid explains why meat is a luxury for hum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field of cor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814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support many more human vegetarians than meat-ea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ONNECTION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Group 30"/>
          <p:cNvGrpSpPr/>
          <p:nvPr/>
        </p:nvGrpSpPr>
        <p:grpSpPr>
          <a:xfrm>
            <a:off x="1901880" y="3400560"/>
            <a:ext cx="6799320" cy="2974680"/>
            <a:chOff x="1901880" y="3400560"/>
            <a:chExt cx="6799320" cy="2974680"/>
          </a:xfrm>
        </p:grpSpPr>
        <p:pic>
          <p:nvPicPr>
            <p:cNvPr id="404" name="Picture 17" descr="_x0018_37_14EatMeatLuxury_U.jpg                                       0051B279_x0003_203                            BE74600A:"/>
            <p:cNvPicPr/>
            <p:nvPr/>
          </p:nvPicPr>
          <p:blipFill>
            <a:blip r:embed="rId1"/>
            <a:stretch/>
          </p:blipFill>
          <p:spPr>
            <a:xfrm>
              <a:off x="1901880" y="3400560"/>
              <a:ext cx="6799320" cy="29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18"/>
            <p:cNvSpPr/>
            <p:nvPr/>
          </p:nvSpPr>
          <p:spPr>
            <a:xfrm>
              <a:off x="1948680" y="341784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rophic leve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Text Box 19"/>
            <p:cNvSpPr/>
            <p:nvPr/>
          </p:nvSpPr>
          <p:spPr>
            <a:xfrm>
              <a:off x="1984320" y="3838680"/>
              <a:ext cx="927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econdary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sum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20"/>
            <p:cNvSpPr/>
            <p:nvPr/>
          </p:nvSpPr>
          <p:spPr>
            <a:xfrm>
              <a:off x="1984320" y="4586400"/>
              <a:ext cx="927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imary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sum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21"/>
            <p:cNvSpPr/>
            <p:nvPr/>
          </p:nvSpPr>
          <p:spPr>
            <a:xfrm>
              <a:off x="2022120" y="5548320"/>
              <a:ext cx="87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oduc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22"/>
            <p:cNvSpPr/>
            <p:nvPr/>
          </p:nvSpPr>
          <p:spPr>
            <a:xfrm>
              <a:off x="3049560" y="4614840"/>
              <a:ext cx="97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uma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getaria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23"/>
            <p:cNvSpPr/>
            <p:nvPr/>
          </p:nvSpPr>
          <p:spPr>
            <a:xfrm>
              <a:off x="3056400" y="526104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r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24"/>
            <p:cNvSpPr/>
            <p:nvPr/>
          </p:nvSpPr>
          <p:spPr>
            <a:xfrm>
              <a:off x="5900400" y="391464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uma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eat-eat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25"/>
            <p:cNvSpPr/>
            <p:nvPr/>
          </p:nvSpPr>
          <p:spPr>
            <a:xfrm>
              <a:off x="5901120" y="4459320"/>
              <a:ext cx="57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att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26"/>
            <p:cNvSpPr/>
            <p:nvPr/>
          </p:nvSpPr>
          <p:spPr>
            <a:xfrm>
              <a:off x="5899680" y="529920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r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4" name="Text Box 28"/>
          <p:cNvSpPr/>
          <p:nvPr/>
        </p:nvSpPr>
        <p:spPr>
          <a:xfrm>
            <a:off x="603000" y="60595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7.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7.15 Chemicals are recycled between organic matter and abiotic reservoi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trients recycle betw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sms and abiotic reservo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Picture 7" descr="_x001a_37_05NutrientCycling_U.jpg                                     0051B279_x0003_203                            BE74600A:"/>
          <p:cNvPicPr/>
          <p:nvPr/>
        </p:nvPicPr>
        <p:blipFill>
          <a:blip r:embed="rId1"/>
          <a:stretch/>
        </p:blipFill>
        <p:spPr>
          <a:xfrm>
            <a:off x="2889360" y="3227400"/>
            <a:ext cx="3332160" cy="307008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8"/>
          <p:cNvSpPr/>
          <p:nvPr/>
        </p:nvSpPr>
        <p:spPr>
          <a:xfrm>
            <a:off x="3605400" y="3841920"/>
            <a:ext cx="82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sume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3495240" y="44737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duce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3508560" y="5038560"/>
            <a:ext cx="88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utrien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vail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o produce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11"/>
          <p:cNvSpPr/>
          <p:nvPr/>
        </p:nvSpPr>
        <p:spPr>
          <a:xfrm>
            <a:off x="4217760" y="5853240"/>
            <a:ext cx="67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biotic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servoi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12"/>
          <p:cNvSpPr/>
          <p:nvPr/>
        </p:nvSpPr>
        <p:spPr>
          <a:xfrm>
            <a:off x="4839120" y="479412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tritivo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13"/>
          <p:cNvSpPr/>
          <p:nvPr/>
        </p:nvSpPr>
        <p:spPr>
          <a:xfrm>
            <a:off x="3327840" y="3778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666699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14"/>
          <p:cNvSpPr/>
          <p:nvPr/>
        </p:nvSpPr>
        <p:spPr>
          <a:xfrm>
            <a:off x="3616560" y="40719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66669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15"/>
          <p:cNvSpPr/>
          <p:nvPr/>
        </p:nvSpPr>
        <p:spPr>
          <a:xfrm>
            <a:off x="3472200" y="47070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666699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5453280" y="50166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666699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18"/>
          <p:cNvSpPr/>
          <p:nvPr/>
        </p:nvSpPr>
        <p:spPr>
          <a:xfrm>
            <a:off x="1530000" y="60595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7.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7.16 Water moves through the biosphere in a global cy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lar he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814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rives the global water cycle of precipitation, evaporation, and transpi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9" name="Group 19"/>
          <p:cNvGrpSpPr/>
          <p:nvPr/>
        </p:nvGrpSpPr>
        <p:grpSpPr>
          <a:xfrm>
            <a:off x="1530000" y="254160"/>
            <a:ext cx="7106040" cy="6276960"/>
            <a:chOff x="1530000" y="254160"/>
            <a:chExt cx="7106040" cy="6276960"/>
          </a:xfrm>
        </p:grpSpPr>
        <p:sp>
          <p:nvSpPr>
            <p:cNvPr id="430" name="FlagCount" hidden="1"/>
            <p:cNvSpPr/>
            <p:nvPr/>
          </p:nvSpPr>
          <p:spPr>
            <a:xfrm>
              <a:off x="8255160" y="254160"/>
              <a:ext cx="380880" cy="3175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60597b">
                <a:alpha val="25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31" name="Picture 7" descr="_x001b_37_16GlobalWaterCycle_U.jpg                                    0051B279_x0003_203                            BE74600A:"/>
            <p:cNvPicPr/>
            <p:nvPr/>
          </p:nvPicPr>
          <p:blipFill>
            <a:blip r:embed="rId1"/>
            <a:stretch/>
          </p:blipFill>
          <p:spPr>
            <a:xfrm>
              <a:off x="2867040" y="3154320"/>
              <a:ext cx="3376440" cy="337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 Box 8"/>
            <p:cNvSpPr/>
            <p:nvPr/>
          </p:nvSpPr>
          <p:spPr>
            <a:xfrm>
              <a:off x="4691160" y="360216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Transport</a:t>
              </a:r>
              <a:br>
                <a:rPr sz="9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ver la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9"/>
            <p:cNvSpPr/>
            <p:nvPr/>
          </p:nvSpPr>
          <p:spPr>
            <a:xfrm>
              <a:off x="3783960" y="3911760"/>
              <a:ext cx="833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olar energy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10"/>
            <p:cNvSpPr/>
            <p:nvPr/>
          </p:nvSpPr>
          <p:spPr>
            <a:xfrm>
              <a:off x="3702240" y="4140360"/>
              <a:ext cx="120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Net movement of</a:t>
              </a:r>
              <a:br>
                <a:rPr sz="9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water vapor by wi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11"/>
            <p:cNvSpPr/>
            <p:nvPr/>
          </p:nvSpPr>
          <p:spPr>
            <a:xfrm>
              <a:off x="4146480" y="5794200"/>
              <a:ext cx="81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Runoff a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roundwate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12"/>
            <p:cNvSpPr/>
            <p:nvPr/>
          </p:nvSpPr>
          <p:spPr>
            <a:xfrm>
              <a:off x="5135040" y="5394240"/>
              <a:ext cx="756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Percola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through</a:t>
              </a:r>
              <a:br>
                <a:rPr sz="9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o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13"/>
            <p:cNvSpPr/>
            <p:nvPr/>
          </p:nvSpPr>
          <p:spPr>
            <a:xfrm>
              <a:off x="5231520" y="453708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Precipitation</a:t>
              </a:r>
              <a:br>
                <a:rPr sz="9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ver la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14"/>
            <p:cNvSpPr/>
            <p:nvPr/>
          </p:nvSpPr>
          <p:spPr>
            <a:xfrm>
              <a:off x="3867480" y="4846680"/>
              <a:ext cx="10753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Evaporation a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transpiration from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la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15"/>
            <p:cNvSpPr/>
            <p:nvPr/>
          </p:nvSpPr>
          <p:spPr>
            <a:xfrm>
              <a:off x="3071160" y="464328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Precipita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ver ocea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Text Box 17"/>
            <p:cNvSpPr/>
            <p:nvPr/>
          </p:nvSpPr>
          <p:spPr>
            <a:xfrm>
              <a:off x="1530000" y="605952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7.1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Text Box 18"/>
            <p:cNvSpPr/>
            <p:nvPr/>
          </p:nvSpPr>
          <p:spPr>
            <a:xfrm>
              <a:off x="3742920" y="4573440"/>
              <a:ext cx="79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Evaporation</a:t>
              </a:r>
              <a:br>
                <a:rPr sz="9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from ocea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27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14"/>
              </a:spcBef>
              <a:spcAft>
                <a:spcPts val="649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7.17 The carbon cycle depends on photosynthesis and respi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bon is taken from the atmosphere by photosyn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make organic molecules, and returned to the atmosphere by cellular respi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17"/>
          <p:cNvGrpSpPr/>
          <p:nvPr/>
        </p:nvGrpSpPr>
        <p:grpSpPr>
          <a:xfrm>
            <a:off x="2860560" y="3395520"/>
            <a:ext cx="3240360" cy="3119760"/>
            <a:chOff x="2860560" y="3395520"/>
            <a:chExt cx="3240360" cy="3119760"/>
          </a:xfrm>
        </p:grpSpPr>
        <p:pic>
          <p:nvPicPr>
            <p:cNvPr id="445" name="Picture 7" descr="_x0016_37_17CarbonCycle_U.jpg                                         0051B279_x0003_203                            BE74600A:"/>
            <p:cNvPicPr/>
            <p:nvPr/>
          </p:nvPicPr>
          <p:blipFill>
            <a:blip r:embed="rId1"/>
            <a:stretch/>
          </p:blipFill>
          <p:spPr>
            <a:xfrm>
              <a:off x="2860560" y="3395520"/>
              <a:ext cx="3240360" cy="31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Text Box 8"/>
            <p:cNvSpPr/>
            <p:nvPr/>
          </p:nvSpPr>
          <p:spPr>
            <a:xfrm>
              <a:off x="3895200" y="3732120"/>
              <a:ext cx="91224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0" lang="en-US" sz="700" spc="-1" strike="noStrike" baseline="-25000">
                  <a:solidFill>
                    <a:srgbClr val="ffffff"/>
                  </a:solidFill>
                  <a:latin typeface="Arial"/>
                </a:rPr>
                <a:t>2 </a:t>
              </a: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in atmosphere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Text Box 9"/>
            <p:cNvSpPr/>
            <p:nvPr/>
          </p:nvSpPr>
          <p:spPr>
            <a:xfrm>
              <a:off x="4577400" y="3900600"/>
              <a:ext cx="777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Photosynthesis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0"/>
            <p:cNvSpPr/>
            <p:nvPr/>
          </p:nvSpPr>
          <p:spPr>
            <a:xfrm>
              <a:off x="4028040" y="420372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ellular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respiration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11"/>
            <p:cNvSpPr/>
            <p:nvPr/>
          </p:nvSpPr>
          <p:spPr>
            <a:xfrm>
              <a:off x="3155760" y="4923000"/>
              <a:ext cx="5922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urning of</a:t>
              </a:r>
              <a:br>
                <a:rPr sz="7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fossil fuels</a:t>
              </a:r>
              <a:br>
                <a:rPr sz="7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and wood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2"/>
            <p:cNvSpPr/>
            <p:nvPr/>
          </p:nvSpPr>
          <p:spPr>
            <a:xfrm>
              <a:off x="3341160" y="553248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arbon compounds</a:t>
              </a:r>
              <a:br>
                <a:rPr sz="7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in water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13"/>
            <p:cNvSpPr/>
            <p:nvPr/>
          </p:nvSpPr>
          <p:spPr>
            <a:xfrm>
              <a:off x="4611600" y="5533920"/>
              <a:ext cx="483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Detritus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4"/>
            <p:cNvSpPr/>
            <p:nvPr/>
          </p:nvSpPr>
          <p:spPr>
            <a:xfrm>
              <a:off x="4824000" y="5303880"/>
              <a:ext cx="61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Primary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onsumers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5"/>
            <p:cNvSpPr/>
            <p:nvPr/>
          </p:nvSpPr>
          <p:spPr>
            <a:xfrm>
              <a:off x="5223960" y="5186520"/>
              <a:ext cx="65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igher-level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onsumers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Text Box 16"/>
            <p:cNvSpPr/>
            <p:nvPr/>
          </p:nvSpPr>
          <p:spPr>
            <a:xfrm>
              <a:off x="4120200" y="6043680"/>
              <a:ext cx="814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700" spc="-1" strike="noStrike">
                  <a:solidFill>
                    <a:srgbClr val="666699"/>
                  </a:solidFill>
                  <a:latin typeface="Arial"/>
                </a:rPr>
                <a:t>Decomposition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5" name="Text Box 18"/>
          <p:cNvSpPr/>
          <p:nvPr/>
        </p:nvSpPr>
        <p:spPr>
          <a:xfrm>
            <a:off x="1530000" y="60595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7.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211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36"/>
              </a:spcBef>
              <a:spcAft>
                <a:spcPts val="675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7.18 The nitrogen cycle relies heavily on bacteri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774"/>
              </a:spcBef>
              <a:spcAft>
                <a:spcPts val="624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Various bacteria in soi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774"/>
              </a:spcBef>
              <a:spcAft>
                <a:spcPts val="624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onvert gaseous N</a:t>
            </a:r>
            <a:r>
              <a:rPr b="0" lang="en-US" sz="25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to compounds that plants use: ammonium (NH</a:t>
            </a:r>
            <a:r>
              <a:rPr b="0" lang="en-US" sz="25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5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) and nitrate (NO</a:t>
            </a:r>
            <a:r>
              <a:rPr b="0" lang="en-US" sz="25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500" spc="-1" strike="noStrike" baseline="30000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8" name="Group 19"/>
          <p:cNvGrpSpPr/>
          <p:nvPr/>
        </p:nvGrpSpPr>
        <p:grpSpPr>
          <a:xfrm>
            <a:off x="2746440" y="2808360"/>
            <a:ext cx="3618000" cy="3618000"/>
            <a:chOff x="2746440" y="2808360"/>
            <a:chExt cx="3618000" cy="3618000"/>
          </a:xfrm>
        </p:grpSpPr>
        <p:pic>
          <p:nvPicPr>
            <p:cNvPr id="459" name="Picture 7" descr="_x0018_37_18NitrogenCycle_U.jpg                                       0051B279_x0003_203                            BE74600A:"/>
            <p:cNvPicPr/>
            <p:nvPr/>
          </p:nvPicPr>
          <p:blipFill>
            <a:blip r:embed="rId1"/>
            <a:stretch/>
          </p:blipFill>
          <p:spPr>
            <a:xfrm>
              <a:off x="2746440" y="2808360"/>
              <a:ext cx="3618000" cy="361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 Box 8"/>
            <p:cNvSpPr/>
            <p:nvPr/>
          </p:nvSpPr>
          <p:spPr>
            <a:xfrm>
              <a:off x="3902760" y="3389400"/>
              <a:ext cx="126864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Nitrogen in atmosphere (N</a:t>
              </a:r>
              <a:r>
                <a:rPr b="0" lang="en-US" sz="7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9"/>
            <p:cNvSpPr/>
            <p:nvPr/>
          </p:nvSpPr>
          <p:spPr>
            <a:xfrm>
              <a:off x="3150720" y="4294080"/>
              <a:ext cx="51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Nitrogen</a:t>
              </a:r>
              <a:br>
                <a:rPr sz="7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fixation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10"/>
            <p:cNvSpPr/>
            <p:nvPr/>
          </p:nvSpPr>
          <p:spPr>
            <a:xfrm>
              <a:off x="3193200" y="4700520"/>
              <a:ext cx="9428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Nitrogen-fixing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acteria in root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nodules of legumes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11"/>
            <p:cNvSpPr/>
            <p:nvPr/>
          </p:nvSpPr>
          <p:spPr>
            <a:xfrm>
              <a:off x="4283640" y="4902120"/>
              <a:ext cx="625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Detritivores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Text Box 12"/>
            <p:cNvSpPr/>
            <p:nvPr/>
          </p:nvSpPr>
          <p:spPr>
            <a:xfrm>
              <a:off x="4221360" y="5091120"/>
              <a:ext cx="762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Decomposition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13"/>
            <p:cNvSpPr/>
            <p:nvPr/>
          </p:nvSpPr>
          <p:spPr>
            <a:xfrm>
              <a:off x="4175280" y="5394240"/>
              <a:ext cx="8953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Ammonium (NH</a:t>
              </a:r>
              <a:r>
                <a:rPr b="0" lang="en-US" sz="7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7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14"/>
            <p:cNvSpPr/>
            <p:nvPr/>
          </p:nvSpPr>
          <p:spPr>
            <a:xfrm>
              <a:off x="5124600" y="4684680"/>
              <a:ext cx="48384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Nitrates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(NO</a:t>
              </a:r>
              <a:r>
                <a:rPr b="0" lang="en-US" sz="7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700" spc="-1" strike="noStrike" baseline="30000">
                  <a:solidFill>
                    <a:srgbClr val="ffffff"/>
                  </a:solidFill>
                  <a:latin typeface="Arial"/>
                </a:rPr>
                <a:t>–</a:t>
              </a: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15"/>
            <p:cNvSpPr/>
            <p:nvPr/>
          </p:nvSpPr>
          <p:spPr>
            <a:xfrm>
              <a:off x="4740480" y="4294080"/>
              <a:ext cx="65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Assimilation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y plants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16"/>
            <p:cNvSpPr/>
            <p:nvPr/>
          </p:nvSpPr>
          <p:spPr>
            <a:xfrm>
              <a:off x="5478120" y="4554360"/>
              <a:ext cx="62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Denitrifying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acteria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17"/>
            <p:cNvSpPr/>
            <p:nvPr/>
          </p:nvSpPr>
          <p:spPr>
            <a:xfrm>
              <a:off x="3558240" y="556560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Nitrogen-fixing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soil bacteria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18"/>
            <p:cNvSpPr/>
            <p:nvPr/>
          </p:nvSpPr>
          <p:spPr>
            <a:xfrm>
              <a:off x="5356800" y="5153040"/>
              <a:ext cx="52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Nitrifying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acteria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1" name="Text Box 20"/>
          <p:cNvSpPr/>
          <p:nvPr/>
        </p:nvSpPr>
        <p:spPr>
          <a:xfrm>
            <a:off x="1530000" y="60595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7.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ritiv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ompose organic matter and recycle nitrogen to pl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1572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actions such as these between organi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27360" indent="-54468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examples of interactions that occur in biological comm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7.19 The phosphorus cycle depends on the weathering of roc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osphorus and other soil miner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recycled lo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Group 19"/>
          <p:cNvGrpSpPr/>
          <p:nvPr/>
        </p:nvGrpSpPr>
        <p:grpSpPr>
          <a:xfrm>
            <a:off x="2728800" y="3110040"/>
            <a:ext cx="3537000" cy="3400200"/>
            <a:chOff x="2728800" y="3110040"/>
            <a:chExt cx="3537000" cy="3400200"/>
          </a:xfrm>
        </p:grpSpPr>
        <p:pic>
          <p:nvPicPr>
            <p:cNvPr id="477" name="Picture 7" descr="_x001a_37_19PhosphorusCycle_U.jpg                                     0051B279_x0003_203                            BE7703A3:"/>
            <p:cNvPicPr/>
            <p:nvPr/>
          </p:nvPicPr>
          <p:blipFill>
            <a:blip r:embed="rId1"/>
            <a:stretch/>
          </p:blipFill>
          <p:spPr>
            <a:xfrm>
              <a:off x="2728800" y="3110040"/>
              <a:ext cx="3537000" cy="34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Text Box 8"/>
            <p:cNvSpPr/>
            <p:nvPr/>
          </p:nvSpPr>
          <p:spPr>
            <a:xfrm>
              <a:off x="3674880" y="4241880"/>
              <a:ext cx="70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Weathering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of rock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9"/>
            <p:cNvSpPr/>
            <p:nvPr/>
          </p:nvSpPr>
          <p:spPr>
            <a:xfrm>
              <a:off x="3073680" y="4122720"/>
              <a:ext cx="583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Geologic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uplift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of rock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"/>
            <p:cNvSpPr/>
            <p:nvPr/>
          </p:nvSpPr>
          <p:spPr>
            <a:xfrm>
              <a:off x="4182120" y="4397400"/>
              <a:ext cx="48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Runoff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Text Box 11"/>
            <p:cNvSpPr/>
            <p:nvPr/>
          </p:nvSpPr>
          <p:spPr>
            <a:xfrm>
              <a:off x="3469680" y="4834080"/>
              <a:ext cx="83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Sedimentatio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12"/>
            <p:cNvSpPr/>
            <p:nvPr/>
          </p:nvSpPr>
          <p:spPr>
            <a:xfrm>
              <a:off x="3941640" y="5403960"/>
              <a:ext cx="59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Leaching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13"/>
            <p:cNvSpPr/>
            <p:nvPr/>
          </p:nvSpPr>
          <p:spPr>
            <a:xfrm>
              <a:off x="4271760" y="5218200"/>
              <a:ext cx="351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Soil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4"/>
            <p:cNvSpPr/>
            <p:nvPr/>
          </p:nvSpPr>
          <p:spPr>
            <a:xfrm>
              <a:off x="4633200" y="5003640"/>
              <a:ext cx="7491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Plant uptak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of PO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800" spc="-1" strike="noStrike" baseline="30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800" spc="-1" strike="noStrike" baseline="50000">
                  <a:solidFill>
                    <a:srgbClr val="ffffff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15"/>
            <p:cNvSpPr/>
            <p:nvPr/>
          </p:nvSpPr>
          <p:spPr>
            <a:xfrm>
              <a:off x="5286960" y="4780080"/>
              <a:ext cx="781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onsumptio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Text Box 16"/>
            <p:cNvSpPr/>
            <p:nvPr/>
          </p:nvSpPr>
          <p:spPr>
            <a:xfrm>
              <a:off x="4514760" y="5851440"/>
              <a:ext cx="855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Decompositio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Text Box 17"/>
            <p:cNvSpPr/>
            <p:nvPr/>
          </p:nvSpPr>
          <p:spPr>
            <a:xfrm>
              <a:off x="5252040" y="3760920"/>
              <a:ext cx="389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Rai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Text Box 18"/>
            <p:cNvSpPr/>
            <p:nvPr/>
          </p:nvSpPr>
          <p:spPr>
            <a:xfrm>
              <a:off x="5432040" y="4222800"/>
              <a:ext cx="465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Plant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Text Box 20"/>
          <p:cNvSpPr/>
          <p:nvPr/>
        </p:nvSpPr>
        <p:spPr>
          <a:xfrm>
            <a:off x="1530000" y="60595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7.1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304920" y="105408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7.20 Ecosystem alteration can upset chemical cyc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7dab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5fae"/>
                </a:solidFill>
                <a:latin typeface="Times New Roman"/>
              </a:rPr>
              <a:t>ECOSYSTEM ALTERATION </a:t>
            </a:r>
            <a:br>
              <a:rPr sz="3000"/>
            </a:br>
            <a:r>
              <a:rPr b="1" lang="en-US" sz="3000" spc="-1" strike="noStrike">
                <a:solidFill>
                  <a:srgbClr val="005fae"/>
                </a:solidFill>
                <a:latin typeface="Times New Roman"/>
              </a:rPr>
              <a:t>CONNECTION</a:t>
            </a:r>
            <a:endParaRPr b="1" lang="en-US" sz="3000" spc="-1" strike="noStrike">
              <a:solidFill>
                <a:srgbClr val="005fa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34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osystem studies show that drastic alterations, such as the total removal of vege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34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increase the runoff and loss of soil nutr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17"/>
          <p:cNvSpPr/>
          <p:nvPr/>
        </p:nvSpPr>
        <p:spPr>
          <a:xfrm>
            <a:off x="539280" y="613584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7.20A—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19" descr="_x001c_37_20bLoggedWatershed_UP.jpg                                   0051B246_x0003_203                            BE74600A:"/>
          <p:cNvPicPr/>
          <p:nvPr/>
        </p:nvPicPr>
        <p:blipFill>
          <a:blip r:embed="rId1"/>
          <a:stretch/>
        </p:blipFill>
        <p:spPr>
          <a:xfrm>
            <a:off x="554040" y="4349880"/>
            <a:ext cx="2616120" cy="1838160"/>
          </a:xfrm>
          <a:prstGeom prst="rect">
            <a:avLst/>
          </a:prstGeom>
          <a:ln w="0">
            <a:noFill/>
          </a:ln>
        </p:spPr>
      </p:pic>
      <p:grpSp>
        <p:nvGrpSpPr>
          <p:cNvPr id="497" name="Group 68"/>
          <p:cNvGrpSpPr/>
          <p:nvPr/>
        </p:nvGrpSpPr>
        <p:grpSpPr>
          <a:xfrm>
            <a:off x="476280" y="2055960"/>
            <a:ext cx="8298000" cy="3753000"/>
            <a:chOff x="476280" y="2055960"/>
            <a:chExt cx="8298000" cy="3753000"/>
          </a:xfrm>
        </p:grpSpPr>
        <p:pic>
          <p:nvPicPr>
            <p:cNvPr id="498" name="Picture 18" descr="_x001c_37_20aHubbardbrookDam_UP.jpg                                   0051B246_x0003_203                            BE74600A:"/>
            <p:cNvPicPr/>
            <p:nvPr/>
          </p:nvPicPr>
          <p:blipFill>
            <a:blip r:embed="rId2"/>
            <a:stretch/>
          </p:blipFill>
          <p:spPr>
            <a:xfrm>
              <a:off x="476280" y="2055960"/>
              <a:ext cx="2620800" cy="231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9" name="Group 67"/>
            <p:cNvGrpSpPr/>
            <p:nvPr/>
          </p:nvGrpSpPr>
          <p:grpSpPr>
            <a:xfrm>
              <a:off x="3272760" y="2743200"/>
              <a:ext cx="5501520" cy="3065760"/>
              <a:chOff x="3272760" y="2743200"/>
              <a:chExt cx="5501520" cy="3065760"/>
            </a:xfrm>
          </p:grpSpPr>
          <p:sp>
            <p:nvSpPr>
              <p:cNvPr id="500" name="Text Box 43"/>
              <p:cNvSpPr/>
              <p:nvPr/>
            </p:nvSpPr>
            <p:spPr>
              <a:xfrm rot="16158000">
                <a:off x="2091960" y="4188960"/>
                <a:ext cx="2670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Nitrate concentration in runoff (mg/L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501" name="Picture 45" descr="_x001f_37_20cWatershedNitratLoss_U.jpg                                0051B279_x0003_203                            BE74600A:"/>
              <p:cNvPicPr/>
              <p:nvPr/>
            </p:nvPicPr>
            <p:blipFill>
              <a:blip r:embed="rId3"/>
              <a:stretch/>
            </p:blipFill>
            <p:spPr>
              <a:xfrm>
                <a:off x="3741840" y="2743200"/>
                <a:ext cx="5032440" cy="288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Text Box 46"/>
              <p:cNvSpPr/>
              <p:nvPr/>
            </p:nvSpPr>
            <p:spPr>
              <a:xfrm>
                <a:off x="4303800" y="4276800"/>
                <a:ext cx="1123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Completion of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ree cuttin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Text Box 47"/>
              <p:cNvSpPr/>
              <p:nvPr/>
            </p:nvSpPr>
            <p:spPr>
              <a:xfrm>
                <a:off x="6510240" y="4618080"/>
                <a:ext cx="67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Contro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Text Box 48"/>
              <p:cNvSpPr/>
              <p:nvPr/>
            </p:nvSpPr>
            <p:spPr>
              <a:xfrm>
                <a:off x="6437880" y="3171960"/>
                <a:ext cx="929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Deforeste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Text Box 49"/>
              <p:cNvSpPr/>
              <p:nvPr/>
            </p:nvSpPr>
            <p:spPr>
              <a:xfrm>
                <a:off x="3657240" y="52671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Text Box 50"/>
              <p:cNvSpPr/>
              <p:nvPr/>
            </p:nvSpPr>
            <p:spPr>
              <a:xfrm>
                <a:off x="3543840" y="504360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.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Text Box 51"/>
              <p:cNvSpPr/>
              <p:nvPr/>
            </p:nvSpPr>
            <p:spPr>
              <a:xfrm>
                <a:off x="3543840" y="478008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.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Text Box 52"/>
              <p:cNvSpPr/>
              <p:nvPr/>
            </p:nvSpPr>
            <p:spPr>
              <a:xfrm>
                <a:off x="3543840" y="451656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Text Box 53"/>
              <p:cNvSpPr/>
              <p:nvPr/>
            </p:nvSpPr>
            <p:spPr>
              <a:xfrm>
                <a:off x="3543840" y="426240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.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Text Box 54"/>
              <p:cNvSpPr/>
              <p:nvPr/>
            </p:nvSpPr>
            <p:spPr>
              <a:xfrm>
                <a:off x="3471840" y="3754440"/>
                <a:ext cx="47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Text Box 55"/>
              <p:cNvSpPr/>
              <p:nvPr/>
            </p:nvSpPr>
            <p:spPr>
              <a:xfrm>
                <a:off x="3471840" y="3495600"/>
                <a:ext cx="47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0.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Text Box 56"/>
              <p:cNvSpPr/>
              <p:nvPr/>
            </p:nvSpPr>
            <p:spPr>
              <a:xfrm>
                <a:off x="3471840" y="3236760"/>
                <a:ext cx="47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60.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Text Box 57"/>
              <p:cNvSpPr/>
              <p:nvPr/>
            </p:nvSpPr>
            <p:spPr>
              <a:xfrm>
                <a:off x="3463920" y="2981160"/>
                <a:ext cx="47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80.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Text Box 58"/>
              <p:cNvSpPr/>
              <p:nvPr/>
            </p:nvSpPr>
            <p:spPr>
              <a:xfrm>
                <a:off x="4034880" y="553248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96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Text Box 59"/>
              <p:cNvSpPr/>
              <p:nvPr/>
            </p:nvSpPr>
            <p:spPr>
              <a:xfrm>
                <a:off x="5338080" y="550224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966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60"/>
              <p:cNvSpPr/>
              <p:nvPr/>
            </p:nvSpPr>
            <p:spPr>
              <a:xfrm>
                <a:off x="6787440" y="547848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967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Text Box 61"/>
              <p:cNvSpPr/>
              <p:nvPr/>
            </p:nvSpPr>
            <p:spPr>
              <a:xfrm>
                <a:off x="8003520" y="546876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968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ironmental changes caused by humans, such as acid precip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unbalance nutrient cycling over the long te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7.21 David Schindler talks about the effects of nutrients on freshwater ecosyste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7"/>
          <p:cNvSpPr/>
          <p:nvPr/>
        </p:nvSpPr>
        <p:spPr>
          <a:xfrm>
            <a:off x="1530000" y="605952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7.21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TALKING ABOUT SCIENCE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4" name="Picture 19" descr="_x001b_37_21aDavidSchindler_UP.jpg                                    0051B246_x0003_203                            BE74600A:"/>
          <p:cNvPicPr/>
          <p:nvPr/>
        </p:nvPicPr>
        <p:blipFill>
          <a:blip r:embed="rId1"/>
          <a:stretch/>
        </p:blipFill>
        <p:spPr>
          <a:xfrm>
            <a:off x="3108240" y="1630440"/>
            <a:ext cx="357984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trient runoff from agricultural lands and large livestock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cause excessive algal grow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cultural eutroph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s species diversity and harms water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17"/>
          <p:cNvSpPr/>
          <p:nvPr/>
        </p:nvSpPr>
        <p:spPr>
          <a:xfrm>
            <a:off x="1263240" y="612288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7.21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18" descr="_x001b_37_21bEutrophication_UP.jpg                                    0051B246_x0003_203                            BE74600A:"/>
          <p:cNvPicPr/>
          <p:nvPr/>
        </p:nvPicPr>
        <p:blipFill>
          <a:blip r:embed="rId1"/>
          <a:stretch/>
        </p:blipFill>
        <p:spPr>
          <a:xfrm>
            <a:off x="2622600" y="3519360"/>
            <a:ext cx="592776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7.1 A community includes all the organisms inhabiting a particular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463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biological commun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463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an assemblage of all the populations of organisms living close enough together for potential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9280"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TRUCTURAL FEATURES OF COMMUNITIE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Group 8"/>
          <p:cNvGrpSpPr/>
          <p:nvPr/>
        </p:nvGrpSpPr>
        <p:grpSpPr>
          <a:xfrm>
            <a:off x="4260960" y="3546360"/>
            <a:ext cx="4419000" cy="2923920"/>
            <a:chOff x="4260960" y="3546360"/>
            <a:chExt cx="4419000" cy="2923920"/>
          </a:xfrm>
        </p:grpSpPr>
        <p:pic>
          <p:nvPicPr>
            <p:cNvPr id="195" name="Picture 6" descr="_x001a_37_01FieldCommunity_UP.jpg                                     0051B246_x0003_203                            BE74600A:"/>
            <p:cNvPicPr/>
            <p:nvPr/>
          </p:nvPicPr>
          <p:blipFill>
            <a:blip r:embed="rId1"/>
            <a:stretch/>
          </p:blipFill>
          <p:spPr>
            <a:xfrm>
              <a:off x="5292360" y="3546360"/>
              <a:ext cx="3387600" cy="29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7"/>
            <p:cNvSpPr/>
            <p:nvPr/>
          </p:nvSpPr>
          <p:spPr>
            <a:xfrm>
              <a:off x="4260960" y="617364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7.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7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ies are characterized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es d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e to disturb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ophic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7.2 Competition may occur when a shared resource is limit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specific compet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between two species if they both require the same limited re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pecies’ ni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its total use of biotic and abiotic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etitive exclusion princi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172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s that two species cannot coexist in a community if their niches are iden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Group 36"/>
          <p:cNvGrpSpPr/>
          <p:nvPr/>
        </p:nvGrpSpPr>
        <p:grpSpPr>
          <a:xfrm>
            <a:off x="484200" y="2254320"/>
            <a:ext cx="8283600" cy="4259520"/>
            <a:chOff x="484200" y="2254320"/>
            <a:chExt cx="8283600" cy="4259520"/>
          </a:xfrm>
        </p:grpSpPr>
        <p:grpSp>
          <p:nvGrpSpPr>
            <p:cNvPr id="204" name="Group 26"/>
            <p:cNvGrpSpPr/>
            <p:nvPr/>
          </p:nvGrpSpPr>
          <p:grpSpPr>
            <a:xfrm>
              <a:off x="484200" y="2254320"/>
              <a:ext cx="8283600" cy="4165560"/>
              <a:chOff x="484200" y="2254320"/>
              <a:chExt cx="8283600" cy="4165560"/>
            </a:xfrm>
          </p:grpSpPr>
          <p:pic>
            <p:nvPicPr>
              <p:cNvPr id="205" name="Picture 27" descr="_x001d_37_02aCompetExclusion_CNL.jpg                                  0051B279_x0003_203                            BE74600A:"/>
              <p:cNvPicPr/>
              <p:nvPr/>
            </p:nvPicPr>
            <p:blipFill>
              <a:blip r:embed="rId1"/>
              <a:stretch/>
            </p:blipFill>
            <p:spPr>
              <a:xfrm>
                <a:off x="484200" y="2254320"/>
                <a:ext cx="8283600" cy="416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Text Box 28"/>
              <p:cNvSpPr/>
              <p:nvPr/>
            </p:nvSpPr>
            <p:spPr>
              <a:xfrm>
                <a:off x="1686960" y="3568680"/>
                <a:ext cx="1131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i="1" lang="en-US" sz="1400" spc="-1" strike="noStrike">
                    <a:solidFill>
                      <a:srgbClr val="ffffff"/>
                    </a:solidFill>
                    <a:latin typeface="Arial"/>
                  </a:rPr>
                  <a:t>Chthamal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29"/>
              <p:cNvSpPr/>
              <p:nvPr/>
            </p:nvSpPr>
            <p:spPr>
              <a:xfrm>
                <a:off x="1689120" y="3962520"/>
                <a:ext cx="82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i="1" lang="en-US" sz="1400" spc="-1" strike="noStrike">
                    <a:solidFill>
                      <a:srgbClr val="ffffff"/>
                    </a:solidFill>
                    <a:latin typeface="Arial"/>
                  </a:rPr>
                  <a:t>Bala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Text Box 30"/>
              <p:cNvSpPr/>
              <p:nvPr/>
            </p:nvSpPr>
            <p:spPr>
              <a:xfrm>
                <a:off x="5386320" y="2662200"/>
                <a:ext cx="88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igh tid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Text Box 31"/>
              <p:cNvSpPr/>
              <p:nvPr/>
            </p:nvSpPr>
            <p:spPr>
              <a:xfrm>
                <a:off x="5122440" y="3308400"/>
                <a:ext cx="1282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i="1" lang="en-US" sz="1400" spc="-1" strike="noStrike">
                    <a:solidFill>
                      <a:srgbClr val="ffffff"/>
                    </a:solidFill>
                    <a:latin typeface="Arial"/>
                  </a:rPr>
                  <a:t>Chthamal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realized nich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Text Box 32"/>
              <p:cNvSpPr/>
              <p:nvPr/>
            </p:nvSpPr>
            <p:spPr>
              <a:xfrm>
                <a:off x="5131800" y="4587840"/>
                <a:ext cx="1282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i="1" lang="en-US" sz="1400" spc="-1" strike="noStrike">
                    <a:solidFill>
                      <a:srgbClr val="ffffff"/>
                    </a:solidFill>
                    <a:latin typeface="Arial"/>
                  </a:rPr>
                  <a:t>Bala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realized nich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Text Box 33"/>
              <p:cNvSpPr/>
              <p:nvPr/>
            </p:nvSpPr>
            <p:spPr>
              <a:xfrm>
                <a:off x="5338440" y="5559480"/>
                <a:ext cx="84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ow tid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Text Box 34"/>
              <p:cNvSpPr/>
              <p:nvPr/>
            </p:nvSpPr>
            <p:spPr>
              <a:xfrm>
                <a:off x="708120" y="5165640"/>
                <a:ext cx="70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ce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3" name="Text Box 35"/>
            <p:cNvSpPr/>
            <p:nvPr/>
          </p:nvSpPr>
          <p:spPr>
            <a:xfrm>
              <a:off x="4213440" y="62373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7.2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5600" indent="-33516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outcome of competition is resource partiti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49200" indent="-53172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one of the species may evolve enough through natural selection to use a different set of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Group 55"/>
          <p:cNvGrpSpPr/>
          <p:nvPr/>
        </p:nvGrpSpPr>
        <p:grpSpPr>
          <a:xfrm>
            <a:off x="687600" y="3135240"/>
            <a:ext cx="7657920" cy="3363840"/>
            <a:chOff x="687600" y="3135240"/>
            <a:chExt cx="7657920" cy="3363840"/>
          </a:xfrm>
        </p:grpSpPr>
        <p:pic>
          <p:nvPicPr>
            <p:cNvPr id="217" name="Picture 42" descr="_x001f_37_02bResourcePartition_CNL.jpg                                0051B279_x0003_203                            BE74600A:"/>
            <p:cNvPicPr/>
            <p:nvPr/>
          </p:nvPicPr>
          <p:blipFill>
            <a:blip r:embed="rId1"/>
            <a:stretch/>
          </p:blipFill>
          <p:spPr>
            <a:xfrm>
              <a:off x="1714680" y="3135240"/>
              <a:ext cx="6630840" cy="33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43"/>
            <p:cNvSpPr/>
            <p:nvPr/>
          </p:nvSpPr>
          <p:spPr>
            <a:xfrm>
              <a:off x="2269800" y="5452920"/>
              <a:ext cx="89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A. distichu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44"/>
            <p:cNvSpPr/>
            <p:nvPr/>
          </p:nvSpPr>
          <p:spPr>
            <a:xfrm>
              <a:off x="2654280" y="5270400"/>
              <a:ext cx="79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A. alinig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45"/>
            <p:cNvSpPr/>
            <p:nvPr/>
          </p:nvSpPr>
          <p:spPr>
            <a:xfrm>
              <a:off x="3687840" y="5913360"/>
              <a:ext cx="94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A. etheridgei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46"/>
            <p:cNvSpPr/>
            <p:nvPr/>
          </p:nvSpPr>
          <p:spPr>
            <a:xfrm>
              <a:off x="3508200" y="5770440"/>
              <a:ext cx="820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A. cybot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47"/>
            <p:cNvSpPr/>
            <p:nvPr/>
          </p:nvSpPr>
          <p:spPr>
            <a:xfrm>
              <a:off x="4018320" y="5280120"/>
              <a:ext cx="102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A. christophei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48"/>
            <p:cNvSpPr/>
            <p:nvPr/>
          </p:nvSpPr>
          <p:spPr>
            <a:xfrm>
              <a:off x="3675600" y="3871800"/>
              <a:ext cx="77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A. ricordii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Text Box 49"/>
            <p:cNvSpPr/>
            <p:nvPr/>
          </p:nvSpPr>
          <p:spPr>
            <a:xfrm>
              <a:off x="3951000" y="4960800"/>
              <a:ext cx="86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A. insolitu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 Box 50"/>
            <p:cNvSpPr/>
            <p:nvPr/>
          </p:nvSpPr>
          <p:spPr>
            <a:xfrm>
              <a:off x="5941800" y="4302000"/>
              <a:ext cx="1771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A. insolitus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erches on shady branch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 Box 51"/>
            <p:cNvSpPr/>
            <p:nvPr/>
          </p:nvSpPr>
          <p:spPr>
            <a:xfrm>
              <a:off x="5943600" y="4643280"/>
              <a:ext cx="1730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A. distichus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erches on sunny surfac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Text Box 53"/>
            <p:cNvSpPr/>
            <p:nvPr/>
          </p:nvSpPr>
          <p:spPr>
            <a:xfrm>
              <a:off x="687600" y="614844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7.2B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0:54:38Z</dcterms:created>
  <dc:creator>Christopher Delgado</dc:creator>
  <dc:description/>
  <dc:language>en-US</dc:language>
  <cp:lastModifiedBy> </cp:lastModifiedBy>
  <cp:lastPrinted>2005-04-09T05:55:57Z</cp:lastPrinted>
  <dcterms:modified xsi:type="dcterms:W3CDTF">2010-03-23T00:11:21Z</dcterms:modified>
  <cp:revision>872</cp:revision>
  <dc:subject/>
  <dc:title>Slide 1</dc:title>
</cp:coreProperties>
</file>